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7A4-81C1-4629-BD13-37DA7FD0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965-4D42-45FE-B63D-AB03C804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871-2EB3-4016-933D-896B89A1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02C-69F0-46DF-8AAE-8D069416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950-7146-4C0B-8D24-012FE0DD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C3D-BB14-46E1-833B-8FB9D250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B6D-FD3B-4677-B3E1-0D6622D8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DFB-AC31-40BB-B1A2-112ADFBE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5AC-FA01-4A41-AE66-C8ACCE56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06F-7E8D-4BBB-A276-12EE4CA5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D2B-4AF6-4832-8EFA-23D42809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6DF-0BB6-44BD-A56E-443B5C71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5342-FA37-4126-8008-53DDDAD5F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ophonemic System – Ph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 systems of oral and written language and the relationship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of written language – orthographic system – how print is orga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tuation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r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nics – Relationship between phonological and orthographic systems. What readers learn to understand as the complex relationship between how we talk and how language is organized in written tex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S00554_"/>
          <p:cNvPicPr/>
          <p:nvPr/>
        </p:nvPicPr>
        <p:blipFill>
          <a:blip r:embed="rId1"/>
          <a:stretch/>
        </p:blipFill>
        <p:spPr>
          <a:xfrm>
            <a:off x="4876920" y="304812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ntic Mea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of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between language and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rds and phrases mean and how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actic System –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of words, sentences, para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 ord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parts of speech go in a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we string words together to sound like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rules of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agmatic System – Language in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into consideration the social, cultural, and historical context of language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know about how and when to change language to particular social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your mother there?” (in a phone conversation) – implies “Is your mother at home? I’d like to speak to h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D07153_"/>
          <p:cNvPicPr/>
          <p:nvPr/>
        </p:nvPicPr>
        <p:blipFill>
          <a:blip r:embed="rId1"/>
          <a:stretch/>
        </p:blipFill>
        <p:spPr>
          <a:xfrm>
            <a:off x="6705720" y="5105520"/>
            <a:ext cx="1143000" cy="12682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2:27:28Z</dcterms:created>
  <dc:creator>College of Education</dc:creator>
  <dc:description/>
  <dc:language>en-US</dc:language>
  <cp:lastModifiedBy>Darci J. Harland</cp:lastModifiedBy>
  <dcterms:modified xsi:type="dcterms:W3CDTF">2009-01-28T18:38:04Z</dcterms:modified>
  <cp:revision>2</cp:revision>
  <dc:subject/>
  <dc:title>Graphophonemic System – Phonics</dc:title>
</cp:coreProperties>
</file>